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80D9-D575-431B-AEF3-1281FF791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F022-368C-4CF8-B7BC-178807ED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88F6-E9CB-4E31-A8B9-55ECBB1EE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4189-F378-42DE-932D-385A0F3F7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059E-BE83-4971-8425-D0E53656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D477-F005-4B57-BF74-8849C8E6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07BB-3687-4487-81C5-4B3B3544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20C9-AD7B-4B73-8B05-E1C381ED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5BBE-24C3-44CA-B65D-10E66329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C609-AC47-4AF4-BB9A-431524B4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9528-3BE8-4768-B65A-C099F03D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CD2B-478C-4554-AD22-45D23CB0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149D-5D36-49A7-A176-775FBA052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e Intelligence Ideas for Proof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Logical Mathematical:  Generate proofs for given theorems.  Be ready to expl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Verbal Linguistic:  Write in paragraph form why the theorems are true.  Explain what we need to think about before using the theor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"/>
              </a:rPr>
              <a:t>Visual Spatial:  Use pictures to explain the theor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e Intelligence Ideas for Proof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usical:  Create a jingle or rap to sing the theorem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inesthetic:  Use Geometer Sketchpad or other computer software to discover the theor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Arial"/>
              </a:rPr>
              <a:t>Intrapersonal:  Write a journal entry for yourself explaining why the theorem is true, how they make sense, and a tip for remembering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15:49:02Z</dcterms:created>
  <dc:creator>CABELL BOE</dc:creator>
  <dc:description/>
  <dc:language>en-US</dc:language>
  <cp:lastModifiedBy>CABELL BOE</cp:lastModifiedBy>
  <dcterms:modified xsi:type="dcterms:W3CDTF">2009-06-01T15:49:15Z</dcterms:modified>
  <cp:revision>1</cp:revision>
  <dc:subject/>
  <dc:title>Multiple Intelligence Ideas for Proofs!</dc:title>
</cp:coreProperties>
</file>